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E05BC-7BE3-4AC9-B277-91B1710C7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4B750-83E9-497C-8C21-C89C81349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9D246-3BE5-440A-B96A-29747E7F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6E29B-52EB-4AFA-930E-C4083D6B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08549-C13D-4616-986B-2C679E5EC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9EF7E-53F3-407F-833A-9D9520015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6FDAD-E537-452C-AF35-89203A6A2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B33AE-61DD-406C-A658-5FAA464C7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E33FB-F2A8-423A-AEC4-BEAA82783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3C7A6-B636-447C-86A9-15C9D62A3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2A635-D7B7-4EA1-A521-6CABC509E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E4E71-8727-41F4-8052-299E27D59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E1B26-2CC1-48F0-96B3-D16B62F86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A10AE-29EE-452F-A144-3B14450F0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C000E-4FD0-43D4-9884-E0D01A503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BA0B9-E6FD-4DA2-8F88-477E8CB54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E083E-92C9-459B-9E6F-BE8E63476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09BF2-7DA4-4DBB-A41B-19F768FBF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16FA-EB82-45DE-9B4D-113A7242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F266-E411-4210-B02E-23202BC5A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1D1BC-C4EF-40AD-A599-51B0C65B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DCF4-6AF1-44D6-BC64-662C40F8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CAE4-C411-4BB1-BB65-C212CE95E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F8BB-C749-4EDD-A907-704A6C78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B5CC-E50C-4E02-A943-36EF7E1821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FFA5-ECA2-4A72-9DAD-12E6D1300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96800" y="393480"/>
            <a:ext cx="6012000" cy="127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Navodila OU za načrtovanje, odločanje o podpori, spremljanje, poročanje in vrednotenje EKP 14/20</a:t>
            </a:r>
            <a:endParaRPr b="0" lang="en-US" sz="3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jekt</a:t>
            </a:r>
            <a:r>
              <a:rPr b="0" lang="sl-SI" sz="1800" spc="-1" strike="noStrike">
                <a:solidFill>
                  <a:srgbClr val="000000"/>
                </a:solidFill>
                <a:latin typeface="Calibri"/>
                <a:ea typeface="Arial"/>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zhajajoč iz 2(9) člena EU uredbe o skupnih določbah je operacija opredeljena tudi kot </a:t>
            </a:r>
            <a:r>
              <a:rPr b="1" lang="sl-SI" sz="1800" spc="-1" strike="noStrike">
                <a:solidFill>
                  <a:srgbClr val="000000"/>
                </a:solidFill>
                <a:latin typeface="Calibri"/>
                <a:ea typeface="Arial"/>
              </a:rPr>
              <a:t>skupina projektov</a:t>
            </a:r>
            <a:r>
              <a:rPr b="0" lang="sl-SI" sz="1800" spc="-1" strike="noStrike">
                <a:solidFill>
                  <a:srgbClr val="000000"/>
                </a:solidFill>
                <a:latin typeface="Calibri"/>
                <a:ea typeface="Arial"/>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Program, ki ga izvaja upravičenec</a:t>
            </a:r>
            <a:r>
              <a:rPr b="0" lang="sl-SI" sz="1800" spc="-1" strike="noStrike">
                <a:solidFill>
                  <a:srgbClr val="000000"/>
                </a:solidFill>
                <a:latin typeface="Calibri"/>
                <a:ea typeface="Arial"/>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Obrazec za NPO za veliki projekt je predpisan v prilogi II izvedbene Uredbe Komisije (EU) 2015/207</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 </a:t>
            </a:r>
            <a:r>
              <a:rPr b="1" lang="pl-PL" sz="2000" spc="-1" strike="noStrike">
                <a:solidFill>
                  <a:srgbClr val="000000"/>
                </a:solidFill>
                <a:latin typeface="Calibri"/>
                <a:ea typeface="Arial"/>
              </a:rPr>
              <a:t>Obrazec za NPO za mali projekt je skoraj v celoti enak obrazcu za „veliki” projek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velikem projektu morajo biti relevantne vsebine bolj poudarjene in obdela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i pripravi vloge za veliki projekt je obvezno treba zagotoviti sodelovanje evropske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ea typeface="Arial"/>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A.4. Zmogljivost organa,  pristojnega za  izvajanje projekta,  z  navedbo  njegove  tehnične, pravne, finančne in upravne zmogljivost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C.2. Preverjanje skladnosti s pravili o državni pomoči</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Arial"/>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420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o je mogoče vnaprej določiti le zahteve in merila za kandidiranje na javnem razpisu in merila, s pomočjo katerih  se med tistimi, ki izpolnjujejo navedene zahteve in merila, izberejo prejemniki sredstev oz. se financirajo tiste operacije, ki so v postopku izbire ocenjene oz. ovrednotene višj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razpis je lahko</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času opredeljen z enkratnim odpiranjem vlog ali z zaporednimi odpiranji vlog do porabe sredstev,</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fazah opredeljen brez vključitve pogajanj ali z vključitvijo pogajanj 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User</cp:lastModifiedBy>
  <cp:lastPrinted>2015-11-09T11:31:02Z</cp:lastPrinted>
  <dcterms:modified xsi:type="dcterms:W3CDTF">2015-12-01T14:55:46Z</dcterms:modified>
  <cp:revision>64</cp:revision>
  <dc:subject/>
  <dc:title>PowerPoint Presentation</dc:title>
</cp:coreProperties>
</file>